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244-2867-43D6-816F-E02E3CBA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6B8-ADF1-4A05-8726-9ABB2742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BD9-9008-47C8-ADA1-B79595D6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5A6-890A-4962-AF27-A3F462A6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A4E-3654-4559-9096-CFBD1F62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85C-DDFB-40E4-8F85-1D61D217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20C-A650-404D-9563-7F89BD15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250-CE08-4BCE-AEA1-E0D4B4A9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701-4F37-4864-A297-580005FE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B6B-17C9-415F-B624-E44D3053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73D-12EA-41C4-AC6B-ECD1DF25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35C-D6E1-405B-BDF1-096ECED2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42AC4-C14C-4DCF-B0DE-F8D1EA37E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0280" y="998640"/>
            <a:ext cx="907092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ért szükséges nyilvánosan auditálható elszámolási rendszer 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vel az üzemeltetők sem tudnak visszaélni azonnali lebukás nélkü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4-ben alapították a svájci gazdaság szereplői.  Az 1929-es gazdasági válság eredményeként. Nem kereskedelmi bank, az ügyfelek érdekeit szolgálja. Ma már kb. 2 Mrd dolláros éves forgalommal üzemel. A WIR-nek igen fontos szerepe volt Svájc gazdaságának stabilizálásáb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sszegez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nnak más elszámolási rendzserek, de a pénzkínálatnak csak jelentéktelen részét alkotják, mivel nem felelnek meg az említett, szerintünk alapvető követelményekn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ideje.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ársadalmi pénzteremt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ntossá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azdasági “válság” (és álság) elleni egyetlen, a gyakorlatban is bevethető eszkö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yilvánosan ellenőrizehető a kibocsátott pénzmennyiség. A tisztességtelen működést a rendszer nem tudja leplez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, ellenőrizhetetlen rendszere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zemeltetési visszaélés lehető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diahadjárat esetén bizonytalanság (igaz a vád, vagy sem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9920" y="109440"/>
            <a:ext cx="907092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özösségi pénze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143000"/>
            <a:ext cx="90709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kan régóta várják, hogy (az elméleten túl) a gyakorlatban is tudjanak tisztességes elszámolásra alkalmas pénzt létrehoz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özgazdaság”tudomány”-tól nem sok segítséget kaptak (inkább félrevezetés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információfeldolgozás fejlődésével a kényelmes megoldás karnyújtásnyira kerü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igitális pénz megoldást jelen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a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kkor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 az összmennyiség ellenőrizhető, és az üzemeltetői visszaéléseket a rendszer nem tudja leplez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énz kívánatos tulajdonság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vertibilis (nem pedig “helyi”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inflálód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rtéke nem függ a forgási sebességt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teremthet senki (bank sem) úgy pénzt, hogy azért majd valaki más ad értéket, de ő élvezi a kamathasznát. A gazdaság szereplői hozzák lé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ális aláírással hitelesített tranzakciók melyek lehetővé teszik hogy bárki által ellenőrizhet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sztességes műkö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bocsátott mennyi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oportok közötti forgalo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konvertibilitáshoz nem feltétlen szükséges, de haszno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680" y="1828440"/>
            <a:ext cx="3611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A csopor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között megenged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(egy főre vonatkoztatot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ficit csö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DejaVu Sans"/>
              </a:rPr>
              <a:t>a piaci szerveződ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gasab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fok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6120" y="6400800"/>
            <a:ext cx="95536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A pénzteremtés az alsó szinten történik. Fentebb egyre kisebb az egy főre jutó likviditás-ig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sszehasonl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360" y="160020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lenőrizhető pénzterem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észtvevő felek azonnal ismerhetik és ellenőrizhetik a tranzakció részleteit, MÁS 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ors, olcsó, megbízható határokon tú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600200"/>
            <a:ext cx="442584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llaminak álcázott, bankok által teremtett pén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és APEH ismerheti az átutalás minden részletét. A résztvevők azonnal nem, csak utó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sú, drága. Külföldi átutalás még lassabb, még drágá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államinak álcázott pénzen kívül jelenleg létező ren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9070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, Cyclos, Pilis Koronakör Cserek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m.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pplepay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net, Lyo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roni Kékf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os, L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095200"/>
            <a:ext cx="89154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özösség pénz teremt, minden tagja kibocsát adott össze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lfogadó által nem ellenőrizhető az üzemeltetők által kibocsátott pénz mennyis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proni Kékf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énzt itt is a magánbankok hozták létre (100% bankszámlapénz fedezetet használ !), az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erek nem bocsátanak k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énz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znos, hogy megbarátkoznak a pénzteremtés monopóliumának megtörésé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ben a formában (amíg nem az emberek teremtik a pénzt, hanem bankpénzt válthatnak be rá) nem jelent érdemi előrelépé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