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740-604D-4551-85EA-8EED0CAB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6A2-4200-4C2E-B21D-52C60EF0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23D-8D78-479A-B930-4EA5BC75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109-2A00-4053-B11A-3347DCB3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F75-4024-4D78-83CF-4C0D3275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1C7-BB60-40E4-BE44-ED90C275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D97-AE72-48D4-A39D-5ABAF1E7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514-C132-4704-A6A2-6448971D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B39-F458-4383-9CB0-1D9BC303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22E-683F-4B9E-80DD-226CA1AF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5F1-32FF-44BC-AF50-EF1705E2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1AD-2D79-4AF9-A492-07F65EC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F4608-0E25-43C3-8361-24EA795EC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74880" y="228240"/>
            <a:ext cx="68119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9920" y="1143000"/>
            <a:ext cx="90709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os követelmények egy megbízható elszámolási rendszerrel szem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mináció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ándékosan inflált pénzt nem infláltra váltják (józan ész!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vertibilitá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t különböző közösségi pénzt használó fél az egymással folytatott csere lebonyolítására használhatja a saját közösségi pénzé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z átváltás a tranzakció során nem bonyolultabb, mint egy banki utalás – csak ez tanusítványokkal igazolt lépésekből á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tálhatósá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árki egyértelműen (a digitális aláírás ellenőrzésével) eldöntheti, hogy a sértett áltat felhozott vád igaz, vagy koh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090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ibocsátott pénz összmennyiségét bárki az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fogadás előt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lenőrizheti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isztességtelen működést a rendszer nem tudja leple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gy jól műkö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gy (pl. az üzemeltetők általi visszaélés vagy helytelen adatvisszaállítás esetén) a rendszer maga tanusítja a bizonyítékot maga ellen: a sértett fél által bemutatot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 kifogásolt utalással közvetlenül kapcsolatos, digitálisan aláírt 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umentumok alapján BÁRKI ellenőrizheti, hogy tényleg történt-e hiba, vagy a szerver helyesen járt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orábbi utalások, mások utalásai és egyenlege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kkor sem kerülnek nyilvánossá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ön lehetőség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ztráci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évtelen regisztráció is lehetséges, ez esetben joga van pénzt fogadni, elkölteni de a kibocsátáshoz a LETS-manager engedélye k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al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S rendszeren bel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tvál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tváltás + utalás egy lépésben.(A jelenlegi bankrendszer legáltalánosabb művelete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S rendszerek közö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őzmények áttekintés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mutatás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dat exportá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bocsá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szavon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sszehasonl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2158920"/>
          <a:ext cx="1060452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58920"/>
                    <a:ext cx="1060452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5833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914400"/>
            <a:ext cx="838044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abvány és nyílt forráskódú szoftver-megvalósítás (JAVA nyelve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é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yilvánosan auditált (ellenőrizhető mennyiségű) közösségi / társadalmi ill. üzleti kibocsátású pénz (=likviditás=elszámolás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chnikai megvalósítás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ek elterjesztése a gazdaságban. Válassz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ideje.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9040" y="3886200"/>
          <a:ext cx="8226360" cy="27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3886200"/>
                    <a:ext cx="822636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övetelés nyilvántartása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hash) “egyirányú” függvény segítségé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8640" y="1504800"/>
          <a:ext cx="9141120" cy="55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504800"/>
                    <a:ext cx="9141120" cy="55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zakció A-&gt;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” kedvezményezett létrehoz egy titkos kulcsot (RAN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enerálja a hozzá tartozó MD-t és átadja “A”-nak. Lehetőleg B által aláírt üzenet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” fél az általa ismert kódot átteszi MD-re. Erről igazolást k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úgyis kell bankpénz is”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vel (kezdetben egészen biztosan) külső szereplők továbbra is államinak álcázott pénzben (=bankpénz) kérik a kiegyenlítés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amennyi bankpé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ll legyen a közösségen belül (közös számla nem kel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ak pici töredéke, mint egyébként kellen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üggetlen valószínűségi változók összeadásakor a várható érték összeadódik. A szórás nem !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volt pénzük, befektethetik, mégis megma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nem volt, ezáltal lesz: a gazdaság hasznos szereplőivé válhatnak. A válságnak véget vethet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