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88679383176204"/>
          <c:y val="0"/>
          <c:w val="0.95633267558284"/>
          <c:h val="0.959640732532369"/>
        </c:manualLayout>
      </c:layout>
      <c:scatterChart>
        <c:scatterStyle val="line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004586"/>
            </a:solidFill>
            <a:ln w="36720">
              <a:solidFill>
                <a:srgbClr val="004586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576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"/>
                <c:pt idx="0">
                  <c:v>1926</c:v>
                </c:pt>
                <c:pt idx="1">
                  <c:v>1927</c:v>
                </c:pt>
                <c:pt idx="2">
                  <c:v>1928</c:v>
                </c:pt>
                <c:pt idx="3">
                  <c:v>1929</c:v>
                </c:pt>
                <c:pt idx="4">
                  <c:v>1930</c:v>
                </c:pt>
                <c:pt idx="5">
                  <c:v>1931</c:v>
                </c:pt>
                <c:pt idx="6">
                  <c:v>1932</c:v>
                </c:pt>
                <c:pt idx="7">
                  <c:v>1933</c:v>
                </c:pt>
                <c:pt idx="8">
                  <c:v>1934</c:v>
                </c:pt>
                <c:pt idx="9">
                  <c:v>1935</c:v>
                </c:pt>
                <c:pt idx="10">
                  <c:v>1936</c:v>
                </c:pt>
                <c:pt idx="11">
                  <c:v>1937</c:v>
                </c:pt>
                <c:pt idx="12">
                  <c:v>1938</c:v>
                </c:pt>
                <c:pt idx="13">
                  <c:v>1939</c:v>
                </c:pt>
                <c:pt idx="14">
                  <c:v>1940</c:v>
                </c:pt>
                <c:pt idx="15">
                  <c:v>1941</c:v>
                </c:pt>
                <c:pt idx="16">
                  <c:v>1942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7"/>
                <c:pt idx="0">
                  <c:v>43.7</c:v>
                </c:pt>
                <c:pt idx="1">
                  <c:v>44.7</c:v>
                </c:pt>
                <c:pt idx="2">
                  <c:v>46.4</c:v>
                </c:pt>
                <c:pt idx="3">
                  <c:v>46.6</c:v>
                </c:pt>
                <c:pt idx="4">
                  <c:v>45.7</c:v>
                </c:pt>
                <c:pt idx="5">
                  <c:v>42.7</c:v>
                </c:pt>
                <c:pt idx="6">
                  <c:v>36.1</c:v>
                </c:pt>
                <c:pt idx="7">
                  <c:v>32.2</c:v>
                </c:pt>
                <c:pt idx="8">
                  <c:v>34.4</c:v>
                </c:pt>
                <c:pt idx="9">
                  <c:v>39.1</c:v>
                </c:pt>
                <c:pt idx="10">
                  <c:v>43.5</c:v>
                </c:pt>
                <c:pt idx="11">
                  <c:v>45.7</c:v>
                </c:pt>
                <c:pt idx="12">
                  <c:v>45.5</c:v>
                </c:pt>
                <c:pt idx="13">
                  <c:v>49.3</c:v>
                </c:pt>
                <c:pt idx="14">
                  <c:v>55.2</c:v>
                </c:pt>
                <c:pt idx="15">
                  <c:v>62.5</c:v>
                </c:pt>
                <c:pt idx="16">
                  <c:v>71.2</c:v>
                </c:pt>
              </c:numCache>
            </c:numRef>
          </c:yVal>
          <c:smooth val="0"/>
        </c:ser>
        <c:axId val="19048462"/>
        <c:axId val="30880611"/>
      </c:scatterChart>
      <c:valAx>
        <c:axId val="19048462"/>
        <c:scaling>
          <c:orientation val="minMax"/>
          <c:max val="1942"/>
          <c:min val="1926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728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80611"/>
        <c:crossesAt val="0"/>
        <c:crossBetween val="midCat"/>
      </c:valAx>
      <c:valAx>
        <c:axId val="30880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215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2150" spc="-1" strike="noStrike">
                    <a:solidFill>
                      <a:srgbClr val="000000"/>
                    </a:solidFill>
                    <a:latin typeface="Arial"/>
                  </a:rPr>
                  <a:t>M2 bill$</a:t>
                </a:r>
              </a:p>
            </c:rich>
          </c:tx>
          <c:layout>
            <c:manualLayout>
              <c:xMode val="edge"/>
              <c:yMode val="edge"/>
              <c:x val="0.0370898194840313"/>
              <c:y val="0.26029394610988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73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48462"/>
        <c:crossesAt val="0"/>
        <c:crossBetween val="midCat"/>
      </c:valAx>
      <c:spPr>
        <a:noFill/>
        <a:ln w="0">
          <a:solidFill>
            <a:srgbClr val="b3b3b3"/>
          </a:solidFill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8EB-67D6-44FB-9548-800CE563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F27-C0E4-4650-B596-19BF3285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15B-2F25-4AE0-8437-9762ED2A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1D1-4A2A-4B19-9809-C304C6B6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385-0A50-4470-BD12-59BD9156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922-5B60-4B9E-8E95-870CD154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45E-EBD5-48CD-8762-D47F3FE6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648-ECA8-4EA1-8267-5E0FD4A8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18D-26C5-4BDE-BF31-F4126D07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25A-A83E-4E11-B5CC-8022808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B01-C625-49D6-9BC0-EB6C3C34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DE9-FCC5-48ED-85EF-50EC5879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A7364-1816-4272-8D86-6A15AC71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jelenlegi pénzrendsz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“Modern” Money Mechanics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560" y="228600"/>
            <a:ext cx="860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nan is származik a pén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6000" y="1599840"/>
            <a:ext cx="9024840" cy="68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özhiedelemmel ellentét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énzt a magánbankok terem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ll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ójáb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öbb pénzt vont vissz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t amennyit kibocsát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bocsátott: kb. 2000 Mrd Ft (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3 Mrd E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szavont: 17 Mrd 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z adókból =&gt; MNB tartalé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énzkínál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nem pénzintézeti számlák egyenlegé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sszege + forgalomban levő készpé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áztartások, vállalkozások, önkormányzato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ll-e egyáltalán pén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00800" y="2057400"/>
            <a:ext cx="3429000" cy="2665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609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pénz igenis font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kölcsönösen előnyös tranzakcióláncok létrejöttét segí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nkavégzé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zakosod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nak alap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zámolás nélkül nem lenne igazságos a (megtermelt / természeti) erőforrásokhoz való hozzáfé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is a pén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6090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i pénz nem más mi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l. J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miért társadalmi megállapodás szerint értékeket adunk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özben nem értjük a keletkezését, az adóssággal való kapcsolat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ölcsönösen előnyös tranzakciólánc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étrejöttét segíti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amíg a bankrendszer olyan pénzt teremt, amiért más ad értéket, addig ez nem igazságos módon történik. Mellékhatásként sokan megszakadnak, mások nyomorog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énzhasználathoz, elszámolásho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INCS szüksé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nyra (környezetszennyezés !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matikailag is visszafizethetetlen adósság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bocsátott pénz mennyisége az USA-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4840" y="1600200"/>
            <a:ext cx="9875880" cy="59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1387440"/>
          <a:ext cx="9852120" cy="6172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78840"/>
            <a:ext cx="9070920" cy="17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államinak álcázott, törvény szerint magán központi bank / jegybank):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 pénzkínálat szűkít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29-193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3800"/>
            <a:ext cx="907092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ideje.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960120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ársadalom vegye át a pénzteremtést a korrupt bankoktól (mert a korrupt állam, ami a bankok kezére játszotta, nem fogja)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agy hasonló tulajdonságú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echnoló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 a modern, tisztességes, fenntartható gazdálkodás megvalósításának szükséges feltéte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vábbá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energia-probléma ma már nem technikai, hanem tömegmanipulációs g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l. az ITER által elérni kívánt célokat – sőt annál kicsit többet-  a Molten Salt Reactor MSR már 1964-1969 között megvalósította. Nem elméletben, hanem gyakorlatban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információáramlást (fontos / nem fontos válogatást) a manipulált véleménygyártó média helyett jobb módszerekkel kell végez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ideje.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ideje.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8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ha nem volt még ilyen közel a lehetőség, hogy tiszta, fenntartható, kényelmes gazdaságot és környezetgazdálkodást valósítsunk me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re több ember ismeri fel a tömegmanipuláció (ami a tudományos papságot is érinti) különböző formáit, és kezdi látni a “mátrixot”. Minél tudatosabban teszi ezt, annál inkább az ön- és közveszélyes stratégia helyett magának, és társadalmának hasznára váló döntéseket tud hozni. Igencsak itt az ide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ideje.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