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32657-6BFB-4E95-B94A-AFD833750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C9CDF-8234-46EA-A80F-FF9DCFB12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B8AFB-0B25-4F05-B678-72A2B7577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D2FBC-E9C5-416F-BF9D-7CDE00203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7F6CD-2A23-40CC-8579-96684CE1E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CF922-C2D9-49C5-957A-BE72E0D2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AA8F6-46EE-4E6D-972A-C5FB430A0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D003B-2C2B-48C3-A6FD-59356F95B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D142C-2AA3-4099-A440-866974872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FB05F-5C34-4FA0-8AB6-EDF640A7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053B-2689-44FE-975E-69CAD3C76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4BAC5-0D35-42E7-8D26-1BEDAF415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31640" indent="-323640">
              <a:lnSpc>
                <a:spcPct val="93000"/>
              </a:lnSpc>
              <a:spcAft>
                <a:spcPts val="1426"/>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431640" indent="-323640">
              <a:lnSpc>
                <a:spcPct val="93000"/>
              </a:lnSpc>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431640" indent="-323640">
              <a:lnSpc>
                <a:spcPct val="93000"/>
              </a:lnSpc>
              <a:spcAft>
                <a:spcPts val="1426"/>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431640" indent="-323640">
              <a:lnSpc>
                <a:spcPct val="93000"/>
              </a:lnSpc>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431640" indent="-323640">
              <a:lnSpc>
                <a:spcPct val="93000"/>
              </a:lnSpc>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431640" indent="-323640">
              <a:lnSpc>
                <a:spcPct val="93000"/>
              </a:lnSpc>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4275A-36E5-4AC6-AC60-92ECA06AB5B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380360" y="2879640"/>
            <a:ext cx="2520720" cy="1979640"/>
          </a:xfrm>
          <a:prstGeom prst="rect">
            <a:avLst/>
          </a:prstGeom>
          <a:ln w="0">
            <a:noFill/>
          </a:ln>
        </p:spPr>
      </p:pic>
      <p:sp>
        <p:nvSpPr>
          <p:cNvPr id="42" name=""/>
          <p:cNvSpPr/>
          <p:nvPr/>
        </p:nvSpPr>
        <p:spPr>
          <a:xfrm>
            <a:off x="360360" y="3419640"/>
            <a:ext cx="8101080" cy="4106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Digitális aláírással hitelesített tranzakciók. B</a:t>
            </a:r>
            <a:r>
              <a:rPr b="0" i="1" lang="en-GB" sz="1800" spc="-1" strike="noStrike">
                <a:solidFill>
                  <a:srgbClr val="000000"/>
                </a:solidFill>
                <a:latin typeface="Arial"/>
              </a:rPr>
              <a:t>árki által ellenőrizhető:</a:t>
            </a:r>
            <a:endParaRPr b="0" lang="en-US" sz="18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rPr>
              <a:t>a tisztességes működés</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rPr>
              <a:t>a kibocsátott mennyiség</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1800" spc="-1" strike="noStrike">
                <a:solidFill>
                  <a:srgbClr val="000000"/>
                </a:solidFill>
                <a:latin typeface="Arial"/>
              </a:rPr>
              <a:t>(az egyenlegek és a konkrét tranzakciók részleteinek</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1800" spc="-1" strike="noStrike">
                <a:solidFill>
                  <a:srgbClr val="000000"/>
                </a:solidFill>
                <a:latin typeface="Arial"/>
              </a:rPr>
              <a:t>ismerete nélkül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A jelenlegi, államinak álcázott, ellenőrizhetetlen, magánbankok álta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teremtett pénzhez képest, amit mi hozunk létre, az a pénz a társadalom céljait tudja szolgálni.</a:t>
            </a:r>
            <a:r>
              <a:rPr b="1" lang="en-GB" sz="1800" spc="-1" strike="noStrike">
                <a:solidFill>
                  <a:srgbClr val="000000"/>
                </a:solidFill>
                <a:latin typeface="Arial"/>
              </a:rPr>
              <a:t> Válasszon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Gazdasági válság (=vagyonátvétel) – </a:t>
            </a:r>
            <a:r>
              <a:rPr b="1" lang="en-GB" sz="1800" spc="-1" strike="noStrike">
                <a:solidFill>
                  <a:srgbClr val="000000"/>
                </a:solidFill>
                <a:latin typeface="Arial"/>
              </a:rPr>
              <a:t>Virágzó gazdasá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Vagyonkoncentráció –  </a:t>
            </a:r>
            <a:r>
              <a:rPr b="1" lang="en-GB" sz="1800" spc="-1" strike="noStrike">
                <a:solidFill>
                  <a:srgbClr val="000000"/>
                </a:solidFill>
                <a:latin typeface="Arial"/>
              </a:rPr>
              <a:t>Igazságos részesedés a megtermelt javakbó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Túltermelés - </a:t>
            </a:r>
            <a:r>
              <a:rPr b="1" lang="en-GB" sz="1800" spc="-1" strike="noStrike">
                <a:solidFill>
                  <a:srgbClr val="000000"/>
                </a:solidFill>
                <a:latin typeface="Arial"/>
              </a:rPr>
              <a:t>Termelés és fogyasztás egyensúly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Környezeti válság - </a:t>
            </a:r>
            <a:r>
              <a:rPr b="1" lang="en-GB" sz="1800" spc="-1" strike="noStrike">
                <a:solidFill>
                  <a:srgbClr val="000000"/>
                </a:solidFill>
                <a:latin typeface="Arial"/>
              </a:rPr>
              <a:t>Hatékony gazdálkodás</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1800" spc="-1" strike="noStrike">
                <a:solidFill>
                  <a:srgbClr val="000000"/>
                </a:solidFill>
                <a:latin typeface="Arial"/>
              </a:rPr>
              <a:t>Fejlett technikával a hagyományos fenntartható gazdálkodásért</a:t>
            </a:r>
            <a:endParaRPr b="0" lang="en-US" sz="1800" spc="-1" strike="noStrike">
              <a:solidFill>
                <a:srgbClr val="000000"/>
              </a:solidFill>
              <a:latin typeface="Arial"/>
            </a:endParaRPr>
          </a:p>
        </p:txBody>
      </p:sp>
      <p:sp>
        <p:nvSpPr>
          <p:cNvPr id="43" name=""/>
          <p:cNvSpPr/>
          <p:nvPr/>
        </p:nvSpPr>
        <p:spPr>
          <a:xfrm>
            <a:off x="360360" y="96840"/>
            <a:ext cx="9180360" cy="41832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400" spc="-1" strike="noStrike">
                <a:solidFill>
                  <a:srgbClr val="000000"/>
                </a:solidFill>
                <a:latin typeface="Arial"/>
              </a:rPr>
              <a:t>A pénzteremtés technikájának ismertetése (és elterjesztése). Ezekkel a módszerekkel akár már 20 társával is tud (konvertibilis és nem inflálódó!) „pénzt teremteni”, elszámolást üzemeltetni. </a:t>
            </a:r>
            <a:r>
              <a:rPr b="1" lang="en-GB" sz="1800" spc="-1" strike="noStrike">
                <a:solidFill>
                  <a:srgbClr val="000000"/>
                </a:solidFill>
                <a:latin typeface="Arial"/>
              </a:rPr>
              <a:t> </a:t>
            </a:r>
            <a:endParaRPr b="0" lang="en-US" sz="18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 saját teremtésű pénzt használók a kívánt tranzakciókat NULLA bank által teremtett (és uzsoraadókkal terhelt) forint-pénz segítségével is elvégezhetik: még ha (pl. külső pénzt követelő partner felé) forinttal kell is fizetni, akkor is összességében a pénz gyorsabb forgása miatt a közösségben tizedannyi forintpénz is elé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600" spc="-1" strike="noStrike">
                <a:solidFill>
                  <a:srgbClr val="000000"/>
                </a:solidFill>
                <a:latin typeface="Arial"/>
              </a:rPr>
              <a:t>A bankok felé az adósságot enélkül  elvileg is lehetetlen visszafizetni (pl. a termelés növelésével).</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000000"/>
                </a:solidFill>
                <a:latin typeface="Arial"/>
              </a:rPr>
              <a:t>         </a:t>
            </a:r>
            <a:r>
              <a:rPr b="1" lang="en-GB" sz="4800" spc="-1" strike="noStrike">
                <a:solidFill>
                  <a:srgbClr val="000000"/>
                </a:solidFill>
                <a:latin typeface="Arial"/>
              </a:rPr>
              <a:t>www.IDEJE.hu</a:t>
            </a:r>
            <a:endParaRPr b="0" lang="en-US" sz="4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60360" y="900000"/>
            <a:ext cx="9685440" cy="3600720"/>
          </a:xfrm>
          <a:prstGeom prst="rect">
            <a:avLst/>
          </a:prstGeom>
          <a:noFill/>
          <a:ln w="0">
            <a:noFill/>
          </a:ln>
        </p:spPr>
        <p:style>
          <a:lnRef idx="0"/>
          <a:fillRef idx="0"/>
          <a:effectRef idx="0"/>
          <a:fontRef idx="minor"/>
        </p:style>
        <p:txBody>
          <a:bodyPr lIns="90000" rIns="90000" tIns="45000" bIns="450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600" spc="-1" strike="noStrike">
                <a:solidFill>
                  <a:srgbClr val="000000"/>
                </a:solidFill>
                <a:latin typeface="Arial"/>
              </a:rPr>
              <a:t>Célunk: a nyilvánosan auditált (bárki által ellenőrizhető mennyiségű) közösségi / társadalmi ill üzleti kibocsátású pénzek elterjesztése a gazdaságban. </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6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600" spc="-1" strike="noStrike">
                <a:solidFill>
                  <a:srgbClr val="000000"/>
                </a:solidFill>
                <a:latin typeface="Arial"/>
              </a:rPr>
              <a:t>Határokon átívelve az egész Kárpát-medencében és azon túl  (az igazságtalan költségek és lassú tranzakciók helyett) gyors, hatékony kereskedelem, melynek részleteit csak a résztvevő felek ismerhetik.</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00"/>
                </a:solidFill>
                <a:latin typeface="Arial"/>
              </a:rPr>
              <a:t>Összehasonlítás</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4427640" cy="498960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800" spc="-1" strike="noStrike">
                <a:solidFill>
                  <a:srgbClr val="000000"/>
                </a:solidFill>
                <a:latin typeface="Arial"/>
              </a:rPr>
              <a:t>Ellenőrizhető pénzteremtés</a:t>
            </a:r>
            <a:endParaRPr b="0" lang="en-US" sz="2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Arial"/>
              </a:rPr>
              <a:t>A résztvevő felek azonnal ismerhetik és ellenőrizhetik a tranzakció részleteit, MÁS NEM</a:t>
            </a:r>
            <a:endParaRPr b="0" lang="en-US" sz="2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Arial"/>
              </a:rPr>
              <a:t>Gyors, olcsó, megbízható határokon túl is</a:t>
            </a:r>
            <a:endParaRPr b="0" lang="en-US" sz="2800" spc="-1" strike="noStrike">
              <a:solidFill>
                <a:srgbClr val="000000"/>
              </a:solidFill>
              <a:latin typeface="Arial"/>
            </a:endParaRPr>
          </a:p>
        </p:txBody>
      </p:sp>
      <p:sp>
        <p:nvSpPr>
          <p:cNvPr id="47" name="PlaceHolder 3"/>
          <p:cNvSpPr>
            <a:spLocks noGrp="1"/>
          </p:cNvSpPr>
          <p:nvPr>
            <p:ph/>
          </p:nvPr>
        </p:nvSpPr>
        <p:spPr>
          <a:xfrm>
            <a:off x="5151600" y="1768320"/>
            <a:ext cx="4427280" cy="498960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800" spc="-1" strike="noStrike">
                <a:solidFill>
                  <a:srgbClr val="000000"/>
                </a:solidFill>
                <a:latin typeface="Arial"/>
              </a:rPr>
              <a:t>Államinak álcázott, bankok által teremtett pénz </a:t>
            </a:r>
            <a:endParaRPr b="0" lang="en-US" sz="2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A bank és APEH ismerheti az átutalás minden részletét. A résztvevők azonnal nem, csak utólag</a:t>
            </a:r>
            <a:endParaRPr b="0" lang="en-US" sz="2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Arial"/>
              </a:rPr>
              <a:t>Lassú, drága. Külföldi átutalás még lassabb, még drágább</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33480"/>
            <a:ext cx="9720360" cy="61070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2400" spc="-1" strike="noStrike">
                <a:solidFill>
                  <a:srgbClr val="000000"/>
                </a:solidFill>
                <a:latin typeface="Arial"/>
              </a:rPr>
              <a:t>Hogyan kapcsolódnak elképzeléseink a Magyarok Szövetségének 21 pontos célkitűzéséhez?</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2000" spc="-1" strike="noStrike">
                <a:solidFill>
                  <a:srgbClr val="000000"/>
                </a:solidFill>
                <a:latin typeface="Arial"/>
              </a:rPr>
              <a:t>6. Helyi és közösségi pénz használata lehetőségének megteremtése, a Nemzeti Bank alárendelése a népképviseleti szerveknek.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000" spc="-1" strike="noStrike">
                <a:solidFill>
                  <a:srgbClr val="000000"/>
                </a:solidFill>
                <a:latin typeface="Arial"/>
              </a:rPr>
              <a:t>Célunk olyan közösségi alapú pénzrendszer megvalósítása, mely a nemzetközi bankrendszer által irányított MNB szerepét fokozatosan átveszi.</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2000" spc="-1" strike="noStrike">
                <a:solidFill>
                  <a:srgbClr val="000000"/>
                </a:solidFill>
                <a:latin typeface="Arial"/>
              </a:rPr>
              <a:t>4.  A nemzet hosszú távú céljait szolgáló nemzeti vagyonelemek közösségi tulajdonba vétele, közösségi tulajdonban tartása.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2000" spc="-1" strike="noStrike">
                <a:solidFill>
                  <a:srgbClr val="000000"/>
                </a:solidFill>
                <a:latin typeface="Arial"/>
              </a:rPr>
              <a:t>17.  A földdel teremtő munkát vállalók földhöz juttatása, közbirtokosságok visszaállítása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1800" spc="-1" strike="noStrike">
                <a:solidFill>
                  <a:srgbClr val="000000"/>
                </a:solidFill>
                <a:latin typeface="Arial"/>
              </a:rPr>
              <a:t>Első lépésben a mezőgazdaságot és az energiagazdálkodást lehetne és kéne kis- és középméretű, közösségi alapú beruházások formájában fokozatosan újraszervezni. Ezen beruházások közösségi finanszírozását és igazságos, közös haszonélvezetét teszik lehetővé az általunk fejlesztett elektronikus pénzkezelő eszközök.</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739800"/>
            <a:ext cx="9925200" cy="6350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2000" spc="-1" strike="noStrike">
                <a:solidFill>
                  <a:srgbClr val="000000"/>
                </a:solidFill>
                <a:latin typeface="Arial"/>
              </a:rPr>
              <a:t>10. Átlátható közpénz-kezelési rendszer létrehozása, a visszaélések szigorú büntetése.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1800" spc="-1" strike="noStrike">
                <a:solidFill>
                  <a:srgbClr val="000000"/>
                </a:solidFill>
                <a:latin typeface="Arial"/>
              </a:rPr>
              <a:t>Bár az állam által beszedett és Brüsszel által szétosztott adók korrupt „hasznosítását” közvetlenül még nem tudjuk meggátolni, az anonimitást biztosító elektronikus pénzrendszer lehetővé teszi, hogy az emberek az erőforrásaik nagyobb részének az elosztásáról döntsenek saját maguk. A technika lehetővé teszi megfelelő népképviseleti szervek által meghatározott közcélok átlátható finanszírozását i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2000" spc="-1" strike="noStrike">
                <a:solidFill>
                  <a:srgbClr val="000000"/>
                </a:solidFill>
                <a:latin typeface="Arial"/>
              </a:rPr>
              <a:t>18. Programadás az állás nélküliek számára – a helyi erőforrásokra alapozott munkahelyek megteremtésével boldogulás helyben, térségi illetve kistérségi továbbképző központok felállítása (átképzések, pl. népi mesterségek, biogazdálkodás, stb.).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2000" spc="-1" strike="noStrike">
                <a:solidFill>
                  <a:srgbClr val="000000"/>
                </a:solidFill>
                <a:latin typeface="Arial"/>
              </a:rPr>
              <a:t>20. A magyar termékek elsődlegessége, forgalmazásának segítése. A kereskedelem magyar kézbe vételének elősegítése.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1800" spc="-1" strike="noStrike">
                <a:solidFill>
                  <a:srgbClr val="000000"/>
                </a:solidFill>
                <a:latin typeface="Arial"/>
              </a:rPr>
              <a:t>Munkahelyek teremtése és a megtermelt javak piacának biztosítása lényegében ugyanaz a probléma. A termelést és mások által megtermelt javak fogyasztását, mint kölcsönösen hasznos tevékenységeket gátolja, ha az ehhez szükséges pénz létrehozásához olyan gazdasági szereplő felé kell eladósodni és kamatot fizetni, aki az értékteremtésben nem vesz részt. Mivel a gazdasági tranzakciók eleve az egymás iránti bizalmon alapulnak, erre a bizalomra alapozva megfelelő technikai háttérrel megteremthető a tranzakciókhoz szükséges pénzmennyiség i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saba Pataki</cp:lastModifiedBy>
  <cp:revision>0</cp:revision>
  <dc:subject/>
  <dc:title/>
</cp:coreProperties>
</file>